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AD5-2A3A-4A71-8D77-9536ED20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82BC-91BE-45AC-8F7B-4F0BDF5B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FC57-44CD-43B9-9078-88F7AF7B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819B-D6E6-43A0-84F4-09A37CFA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582F-053B-47F9-9D06-7BBE8E1A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28E0-825B-4596-A87F-BB347FB9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FA4D-5209-40FB-9CD7-974C14AB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5851-A7C9-45E6-AB11-EBD59FB5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5885-1923-46D3-A542-3205AFBB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B93E-0F66-4C3A-A690-9ADBB02D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1A5A-AEC3-4318-8256-B8F81637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E06D-4B73-47AF-820D-58AE1789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0151-898F-40A2-9D40-C7671224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B531-673B-4E36-BECE-A92CB0B7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27F7-28DF-486C-9371-93CBC60D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C9E4-2934-42E8-8C6B-AD6E8C09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1860-BFB2-4299-98B0-C3ED41CD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2B95-84F3-45B3-8518-7173EB91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0656-BAB6-427F-A0F4-DC54B2F7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633-E838-45D3-A7E0-42817CA4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87F-2F51-4C30-89F8-D76706F3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5D9A-9FEC-44C7-AC7D-365D5216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2F9C-9609-4252-B064-060884BD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C12B-82B4-4A3B-ABDE-A794266C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6C0F-A7B4-494B-9A21-A72C972A34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5C65-60F6-4685-A90F-88015CA5A8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1187280" y="2637000"/>
            <a:ext cx="7129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爱我中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地名猜谜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95280" y="1700280"/>
            <a:ext cx="82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尽是吹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省级行政中心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海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95280" y="1700280"/>
            <a:ext cx="82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7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长江、黄河、珠江、黑龙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省级行政区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395280" y="1052640"/>
            <a:ext cx="82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长江、黄河、珠江、黑龙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省级行政区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四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95280" y="1700280"/>
            <a:ext cx="82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8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一寸光阴一寸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省级行政中心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395280" y="1700280"/>
            <a:ext cx="82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一寸光阴一寸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省级行政中心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贵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95280" y="1700280"/>
            <a:ext cx="82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9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客人躲起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省级行政区名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95280" y="1700280"/>
            <a:ext cx="82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客人躲起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省级行政区名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西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179280" y="1700280"/>
            <a:ext cx="8713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10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围棋比赛黑方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省级行政区简称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79280" y="1700280"/>
            <a:ext cx="87138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围棋比赛黑方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省级行政区简称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79280" y="1700280"/>
            <a:ext cx="8640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11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立即分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省级行政区简称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050920" y="141300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Arial"/>
                <a:ea typeface="黑体"/>
              </a:rPr>
              <a:t>第一轮：小组共答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11280" y="2708280"/>
            <a:ext cx="8243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9900cc"/>
                </a:solidFill>
                <a:latin typeface="黑体"/>
                <a:ea typeface="黑体"/>
              </a:rPr>
              <a:t>、银河渡口（猜省级行政区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9900cc"/>
                </a:solidFill>
                <a:latin typeface="黑体"/>
                <a:ea typeface="黑体"/>
              </a:rPr>
              <a:t>、千里戈壁（猜省级行政中心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黑体"/>
                <a:ea typeface="黑体"/>
              </a:rPr>
              <a:t>3</a:t>
            </a:r>
            <a:r>
              <a:rPr b="0" lang="zh-CN" sz="4000" spc="-1" strike="noStrike">
                <a:solidFill>
                  <a:srgbClr val="9900cc"/>
                </a:solidFill>
                <a:latin typeface="黑体"/>
                <a:ea typeface="黑体"/>
              </a:rPr>
              <a:t>、清水流（猜省级行政区简称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79280" y="1700280"/>
            <a:ext cx="8640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11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立即分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省级行政区简称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324000" y="1700280"/>
            <a:ext cx="8640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12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周围消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省级行政区简称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24000" y="1700280"/>
            <a:ext cx="8640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周围消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省级行政区简称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395280" y="1700280"/>
            <a:ext cx="82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13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军营男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省级行政中心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95280" y="1700280"/>
            <a:ext cx="82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13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军营男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省级行政中心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武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50920" y="2421000"/>
            <a:ext cx="8461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黑体"/>
              </a:rPr>
              <a:t>14</a:t>
            </a: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黑体"/>
              </a:rPr>
              <a:t>、南宁（猜一字）</a:t>
            </a: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黑体"/>
              </a:rPr>
              <a:t>2</a:t>
            </a: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黑体"/>
              </a:rPr>
              <a:t>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黑体"/>
              </a:rPr>
              <a:t>15</a:t>
            </a: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黑体"/>
              </a:rPr>
              <a:t>、山西一日游（猜一字）</a:t>
            </a: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黑体"/>
              </a:rPr>
              <a:t>4</a:t>
            </a: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黑体"/>
              </a:rPr>
              <a:t>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黑体"/>
              </a:rPr>
              <a:t>16</a:t>
            </a: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黑体"/>
              </a:rPr>
              <a:t>、背景分明（猜省区一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11280" y="907920"/>
            <a:ext cx="82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第三轮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: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小组共答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324000" y="1844640"/>
            <a:ext cx="846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14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、南宁（猜一字）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、山西一日游（猜一字）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、背景分明（猜省区一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北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2411280" y="98100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Arial"/>
                <a:ea typeface="黑体"/>
              </a:rPr>
              <a:t>第四轮：抢答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00000" y="364500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Arial"/>
                <a:ea typeface="华文行楷"/>
              </a:rPr>
              <a:t>共十题，先举手回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24000" y="2133720"/>
            <a:ext cx="88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Arial"/>
                <a:ea typeface="华文行楷"/>
              </a:rPr>
              <a:t>搞笑篇，谐音（音相同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24000" y="1700280"/>
            <a:ext cx="8640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17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不便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省级行政区简称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372360" y="476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搞笑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324000" y="1700280"/>
            <a:ext cx="8640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17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不便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省级行政区简称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贵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050920" y="141300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第一轮：小组共答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11280" y="2708280"/>
            <a:ext cx="8243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银河渡口（猜省级行政区一）天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千里戈壁（猜省级行政中心一）长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清水流（猜省级行政区简称一）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324000" y="1700280"/>
            <a:ext cx="8640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18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不富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省级行政区简称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372360" y="476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搞笑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24000" y="1700280"/>
            <a:ext cx="8640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不富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省级行政区简称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琼（穷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24000" y="1700280"/>
            <a:ext cx="8640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19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不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省级行政区简称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372360" y="476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搞笑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324000" y="1700280"/>
            <a:ext cx="8640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19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不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省级行政区简称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湘（香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324000" y="1700280"/>
            <a:ext cx="8640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20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爸爸的弟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省级行政区简称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372360" y="476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搞笑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324000" y="1700280"/>
            <a:ext cx="8640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爸爸的弟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省级行政区简称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苏（叔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324000" y="1700280"/>
            <a:ext cx="8640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21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水里游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省级行政区简称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372360" y="476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搞笑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24000" y="1700280"/>
            <a:ext cx="8640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21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水里游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省级行政区简称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渝（鱼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324000" y="1700280"/>
            <a:ext cx="8640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22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三伏天穿棉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省级行政中心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372360" y="476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搞笑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24000" y="1700280"/>
            <a:ext cx="8640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22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三伏天穿棉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省级行政中心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武汉（捂汗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2411280" y="98100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Arial"/>
                <a:ea typeface="黑体"/>
              </a:rPr>
              <a:t>第二轮：抢答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900000" y="285264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Arial"/>
                <a:ea typeface="华文行楷"/>
              </a:rPr>
              <a:t>共十题，先举手回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324000" y="1700280"/>
            <a:ext cx="8640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23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稀饭一百元一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省级行政区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372360" y="476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搞笑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324000" y="1700280"/>
            <a:ext cx="8640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23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稀饭一百元一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省级行政区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贵州（粥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324000" y="1700280"/>
            <a:ext cx="8640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24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两个和尚怎喝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省级行政区简称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372360" y="476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搞笑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324000" y="1700280"/>
            <a:ext cx="8640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两个和尚怎喝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省级行政区简称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台（抬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24000" y="1700280"/>
            <a:ext cx="8640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25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没吃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省级行政区简称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372360" y="476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搞笑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324000" y="1700280"/>
            <a:ext cx="8640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25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没吃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省级行政区简称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鄂（饿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24000" y="1700280"/>
            <a:ext cx="8640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26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非常不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省级行政中心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72360" y="476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搞笑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324000" y="1700280"/>
            <a:ext cx="8640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26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非常不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省级行政中心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太原（远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411280" y="98100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Arial"/>
                <a:ea typeface="黑体"/>
              </a:rPr>
              <a:t>最后一轮：抢答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900000" y="285264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Arial"/>
                <a:ea typeface="华文行楷"/>
              </a:rPr>
              <a:t>共十题，先举手回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50920" y="170028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27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水边人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省级行政区简称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95280" y="1700280"/>
            <a:ext cx="82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4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大江东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省级行政区名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250920" y="170028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27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水边人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省级行政区简称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250920" y="170028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28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里面埋着文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省级行政区简称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250920" y="170028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28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里面埋着文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省级行政区简称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内蒙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250920" y="170028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29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边界刚划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省级行政区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250920" y="170028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29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边界刚划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省级行政区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新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250920" y="170028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30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街中有棵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省级行政区简称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50920" y="170028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街中有棵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省级行政区简称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250920" y="170028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31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装上标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省级行政区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250920" y="170028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31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装上标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省级行政区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安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250920" y="170028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32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一月二日开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省级行政中心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95280" y="1700280"/>
            <a:ext cx="82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大江东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省级行政区名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上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250920" y="170028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32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一月二日开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省级行政中心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昆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50920" y="170028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33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三伏天无事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省级行政区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50920" y="170028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33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三伏天无事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省级行政区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宁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250920" y="170028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34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江西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一字）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3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250920" y="170028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34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江西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一字）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50920" y="170028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35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中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一字）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5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250920" y="170028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35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中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一字）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250920" y="170028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36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清远地名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250920" y="170028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清远地名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连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908000" y="1341360"/>
            <a:ext cx="561672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华文行楷"/>
              </a:rPr>
              <a:t>爱我中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华文行楷"/>
              </a:rPr>
              <a:t>报效祖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95280" y="1700280"/>
            <a:ext cx="82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5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四季花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省级行政中心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395280" y="1700280"/>
            <a:ext cx="82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四季花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（猜省级行政中心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长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95280" y="1700280"/>
            <a:ext cx="82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6</a:t>
            </a: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、尽是吹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cc"/>
                </a:solidFill>
                <a:latin typeface="黑体"/>
                <a:ea typeface="黑体"/>
              </a:rPr>
              <a:t>（猜省级行政中心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08:44:0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08:15Z</dcterms:modified>
  <cp:revision>8</cp:revision>
  <dc:subject>主题班会课件(分28大类): http://shop62905894.taobao.com</dc:subject>
  <dc:title>主题班会课件(分28大类): http://shop62905894.taobao.com</dc:title>
</cp:coreProperties>
</file>